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9.png" ContentType="image/pn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FDAA-0A93-476E-83A8-4A5C686B0D9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2496-A255-4C6A-A761-FD571B2E114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0F8-C612-4877-AA44-FA381DEF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162-58A8-4D19-94E7-5C8BE8E2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2F2-6008-4D49-A43B-630852FB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BAC-2C73-4C6E-A9A1-44D9FCE9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C9AC-4F18-40E7-BB09-3244DC0D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9B03-845B-4420-A278-897D4A73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22DF-D538-42FA-9DCC-F87F4F13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8F98-B644-43AC-9DB7-28937CE9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7AAC-0C46-49ED-BC85-67812D61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168-BBD0-48F3-B19A-84EDB506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3E16-6BCA-4928-A9D5-1A3056B9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0DC-40ED-4CB8-BE8A-A251CB4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4F6B-116B-4595-AF75-A49E97D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9D96-7A0B-4A58-8B86-2F774BEA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82D5-A94A-41D7-825A-D58B0CA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F850-C743-41CA-B823-52B308FC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883F-68D0-480A-B990-E53D300D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204-4392-4F19-971F-511453C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AFC-3940-4E40-9A84-75829BF8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4B3-5D49-46ED-AAE1-A6B06694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239-B643-4704-A646-E7F11F5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39A-9185-4A8A-AADC-3C78461B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F16-18E6-490C-A875-672883CF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10B-4DE9-4588-8C92-044B0D22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80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CAB1-A178-4E25-8441-3321CAB7A59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880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24D2-8059-423B-86D5-B7C0ED0197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крытый бюджет</a:t>
            </a:r>
            <a:br>
              <a:rPr sz="40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ект решения Совета Знаменского муниципального района «О бюджете муниципального района на 2025 год и на плановый период 2026 и 2027 годов»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3" descr="C:\Users\MARGARITA\Desktop\lVAA9ZzwE2o.jpg"/>
          <p:cNvPicPr/>
          <p:nvPr/>
        </p:nvPicPr>
        <p:blipFill>
          <a:blip r:embed="rId1"/>
          <a:stretch/>
        </p:blipFill>
        <p:spPr>
          <a:xfrm>
            <a:off x="857160" y="4500720"/>
            <a:ext cx="3571920" cy="2146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C:\Users\MARGARITA\Desktop\To6B9QW8wdM.jpg"/>
          <p:cNvPicPr/>
          <p:nvPr/>
        </p:nvPicPr>
        <p:blipFill>
          <a:blip r:embed="rId2"/>
          <a:stretch/>
        </p:blipFill>
        <p:spPr>
          <a:xfrm>
            <a:off x="4857840" y="450072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C:\Users\MARGARITA\Desktop\prJGxIa7m8A.jpg"/>
          <p:cNvPicPr/>
          <p:nvPr/>
        </p:nvPicPr>
        <p:blipFill>
          <a:blip r:embed="rId3"/>
          <a:stretch/>
        </p:blipFill>
        <p:spPr>
          <a:xfrm>
            <a:off x="5357880" y="2357280"/>
            <a:ext cx="3357360" cy="195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C:\Users\MARGARITA\Desktop\6N1qgNvHIdQ.jpg"/>
          <p:cNvPicPr/>
          <p:nvPr/>
        </p:nvPicPr>
        <p:blipFill>
          <a:blip r:embed="rId4"/>
          <a:stretch/>
        </p:blipFill>
        <p:spPr>
          <a:xfrm>
            <a:off x="428760" y="2357280"/>
            <a:ext cx="35035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жилищно-коммунального хозяйств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9285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Расходы бюджета муниципального района на 2025 год предусмотрены в объеме 10544,3тыс.рублей, в том числе на мероприятия подпрограммы «создание условий для обеспечения граждан доступным и комфортным жильем и коммунальными услугами в Знаменском муниципальном районе Омской области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Ремонт и содержание объектов ЖК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одержание водопроводных с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одержание мест (площадок накоп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вердых коммунальных отход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роведение текущих и капиталь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ремонтов зданий ( помещений, строен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сооружени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6" descr="Z:\1 Сектор по бюджету\Шерканова М.В\F8A93YdoZbM.jpg"/>
          <p:cNvPicPr/>
          <p:nvPr/>
        </p:nvPicPr>
        <p:blipFill>
          <a:blip r:embed="rId1"/>
          <a:stretch/>
        </p:blipFill>
        <p:spPr>
          <a:xfrm>
            <a:off x="7715160" y="3286080"/>
            <a:ext cx="1206720" cy="1671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MARGARITA\Desktop\sr_ns7WTWqs.jpg"/>
          <p:cNvPicPr/>
          <p:nvPr/>
        </p:nvPicPr>
        <p:blipFill>
          <a:blip r:embed="rId2"/>
          <a:stretch/>
        </p:blipFill>
        <p:spPr>
          <a:xfrm>
            <a:off x="6072120" y="41911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образова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8760" y="2214360"/>
            <a:ext cx="4038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Общий объем бюджетных ассигнований на 2025 год по разделу «Образование» запланирован в сумме 372519,1 тыс.руб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Подпрограммой «Развитие образования в Знаменском муниципальном районе Омской области» предусмотрено создание условий для обеспечения государственных гарантий граждан на получение общедоступного и бесплатного дошкольного, начального общего, основного общего и среднего (полного) общего образ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Расход по отрасли "Образование" на 2025 год (тыс.руб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Диаграмма 8" descr=""/>
          <p:cNvPicPr/>
          <p:nvPr/>
        </p:nvPicPr>
        <p:blipFill>
          <a:blip r:embed="rId1"/>
          <a:stretch/>
        </p:blipFill>
        <p:spPr>
          <a:xfrm>
            <a:off x="4565520" y="2419200"/>
            <a:ext cx="40849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культуры, кинематограф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400960" cy="17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щий объем бюджетных ассигнований по разделу «Культура, кинематография» запланирован в сумме 58325,7 тыс.рублей в 2025 году в рамках подпрограммы «Сохранение и развитие культуры Знаменского муниципального района Омской области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Диаграмма 5" descr=""/>
          <p:cNvPicPr/>
          <p:nvPr/>
        </p:nvPicPr>
        <p:blipFill>
          <a:blip r:embed="rId1"/>
          <a:stretch/>
        </p:blipFill>
        <p:spPr>
          <a:xfrm>
            <a:off x="1566720" y="3925800"/>
            <a:ext cx="65106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40384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рограммой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Сохранение и развитие культуры Знаменского муниципального района Омской области»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сматриваются мероприятия п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ahoma"/>
              </a:rPr>
              <a:t>-развитию музейного де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-развитию библиотечно-информационных услу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-сохранению и развитию национальной и традиционной куль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-созданию условий для организации досуга нас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C:\Users\MARGARITA\Desktop\Icl3_lxqutQ.jpg"/>
          <p:cNvPicPr/>
          <p:nvPr/>
        </p:nvPicPr>
        <p:blipFill>
          <a:blip r:embed="rId1"/>
          <a:stretch/>
        </p:blipFill>
        <p:spPr>
          <a:xfrm>
            <a:off x="5643720" y="214200"/>
            <a:ext cx="3214440" cy="2171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Users\MARGARITA\Desktop\u_9nKHItmZOBALubOf7kPLvXzVllXB98s4yIs5Vq1JvrHNoyOpFLF0EZ9tIfZ1q9FjcFV_44O43Rk9APi29pY9AH.jpg"/>
          <p:cNvPicPr/>
          <p:nvPr/>
        </p:nvPicPr>
        <p:blipFill>
          <a:blip r:embed="rId2"/>
          <a:stretch/>
        </p:blipFill>
        <p:spPr>
          <a:xfrm>
            <a:off x="4286160" y="150012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:\Users\MARGARITA\Desktop\ZpJFFpgpQs0.jpg"/>
          <p:cNvPicPr/>
          <p:nvPr/>
        </p:nvPicPr>
        <p:blipFill>
          <a:blip r:embed="rId3"/>
          <a:stretch/>
        </p:blipFill>
        <p:spPr>
          <a:xfrm>
            <a:off x="4286160" y="3929040"/>
            <a:ext cx="4572000" cy="242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MARGARITA\Desktop\6sB0qzhd4rM.jpg"/>
          <p:cNvPicPr/>
          <p:nvPr/>
        </p:nvPicPr>
        <p:blipFill>
          <a:blip r:embed="rId4"/>
          <a:stretch/>
        </p:blipFill>
        <p:spPr>
          <a:xfrm>
            <a:off x="6715080" y="2286000"/>
            <a:ext cx="2143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социальной полит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2920" y="1928520"/>
            <a:ext cx="511344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Бюджетные ассигнования районного бюджета по разделу "Социальная политика" запланированы в объеме 14137,4 тыс. рублей на 2025 год, ,10695,2 тыс.рублей на 2026 год,  10720,2 тыс.рублей на 2027 г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Выплата пенсии за выслугу лет муниципальным служащим, замещавшим должности муниципальной службы и (или) муниципальные должности муниципальной службы 3375,5тыс.руб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Бюджетными ассигнованиями районного бюджета  по подразделу "Охрана семьи и детства" предусмотрены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1) компенсация части родительской платы за содержание ребенка (детей) в дошкольных учреждениях – 594,7 тыс. рубле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2) Предоставление опекунам (попечителям) детей, оставшихся без попечения родителей, в том числе детей-сирот, денежных средств на содержание подопечных детей – 2932,5 тыс. рубле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3) предоставление приемным родителям (родителю), приемным семьям мер социальной поддержки –2595,7 тыс. рублей 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3399"/>
                </a:solidFill>
                <a:latin typeface="Tahoma"/>
              </a:rPr>
              <a:t>4) ежемесячное денежное вознаграждение опекунам (попечителям, приемным родителям) – 2460,8 тыс. рубл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Диаграмма 5" descr=""/>
          <p:cNvPicPr/>
          <p:nvPr/>
        </p:nvPicPr>
        <p:blipFill>
          <a:blip r:embed="rId1"/>
          <a:stretch/>
        </p:blipFill>
        <p:spPr>
          <a:xfrm>
            <a:off x="5278320" y="2279520"/>
            <a:ext cx="337212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изическая культура и спор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рамках подпрограммы «Развитие сферы молодежной политики, физической культуры и спорта» предусмотрены денежные средства в объеме 1140,9 тыс.рублей на организацию и проведение спортивных соревнований и физкультурно-оздоровительных мероприятий, материально-техническое обеспечение спортивных сборных команд муниципального рай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C:\Users\MARGARITA\Desktop\1R6n7tuWiNI.jpg"/>
          <p:cNvPicPr/>
          <p:nvPr/>
        </p:nvPicPr>
        <p:blipFill>
          <a:blip r:embed="rId1"/>
          <a:stretch/>
        </p:blipFill>
        <p:spPr>
          <a:xfrm>
            <a:off x="5429160" y="1285920"/>
            <a:ext cx="3460680" cy="1857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C:\Users\MARGARITA\Desktop\6yVGgrhS8OY.jpg"/>
          <p:cNvPicPr/>
          <p:nvPr/>
        </p:nvPicPr>
        <p:blipFill>
          <a:blip r:embed="rId2"/>
          <a:stretch/>
        </p:blipFill>
        <p:spPr>
          <a:xfrm>
            <a:off x="4500720" y="3071880"/>
            <a:ext cx="2406600" cy="160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C:\Users\MARGARITA\Desktop\Xjkt6lTqBzI.jpg"/>
          <p:cNvPicPr/>
          <p:nvPr/>
        </p:nvPicPr>
        <p:blipFill>
          <a:blip r:embed="rId3"/>
          <a:stretch/>
        </p:blipFill>
        <p:spPr>
          <a:xfrm>
            <a:off x="6929280" y="3143160"/>
            <a:ext cx="1928880" cy="2500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C:\Users\MARGARITA\Desktop\hxz8l1J11Os.jpg"/>
          <p:cNvPicPr/>
          <p:nvPr/>
        </p:nvPicPr>
        <p:blipFill>
          <a:blip r:embed="rId4"/>
          <a:stretch/>
        </p:blipFill>
        <p:spPr>
          <a:xfrm>
            <a:off x="4500720" y="4643280"/>
            <a:ext cx="26064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политики Знаменского муниципального района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 2025-2027 год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99"/>
                </a:solidFill>
                <a:uFillTx/>
                <a:latin typeface="Tahoma"/>
              </a:rPr>
              <a:t>Цель </a:t>
            </a: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бюджетной политики Знаменского М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сохранение социальной и экономической стабильности района, обеспечение  долгосрочной сбалансированности и устойчивости бюджета района в условиях ограниченности его доходных источни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3399"/>
                </a:solidFill>
                <a:uFillTx/>
                <a:latin typeface="Tahoma"/>
              </a:rPr>
              <a:t>Направления </a:t>
            </a: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бюджетной политики Знаменского М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обеспечение финансовой устойчивости местного бюджет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совершенствование структуры органов местного самоуправления, оптимизация расходов на их содержани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реализация мероприятий, направленных на совершенствование оказания муниципальных услуг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совершенствование социальной инфраструктуры и повышение эффективности деятельности муниципальных учреждений в сферах образования, культуры, спорта и молодежной политик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ликвидация дефицита и обеспечение доступности муниципальных услуг, оказываемых дошкольными образовательными учреждениями, в том числе за счет строительства зданий для размещения дошкольных образовательных учрежд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улучшение жилищных условий населения в Знаменском район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стимулирование развития малого и среднего предприниматель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реализация мер, обеспечивающих поддержку приоритетных направлений развития агропромышленного комплекс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ahoma"/>
              </a:rPr>
              <a:t>-переход к формированию и исполнению районного бюджета на основе муниципальных програм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сновные параметры районного бюджета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 2025 год и на плановый период 2026 и 2027 год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Диаграмма 4" descr=""/>
          <p:cNvPicPr/>
          <p:nvPr/>
        </p:nvPicPr>
        <p:blipFill>
          <a:blip r:embed="rId1"/>
          <a:stretch/>
        </p:blipFill>
        <p:spPr>
          <a:xfrm>
            <a:off x="633240" y="1706400"/>
            <a:ext cx="80172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руктура доходов районного бюджета на 2025 год и на плановый период 2026 и 2027 год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Схема 10" descr=""/>
          <p:cNvPicPr/>
          <p:nvPr/>
        </p:nvPicPr>
        <p:blipFill>
          <a:blip r:embed="rId1"/>
          <a:stretch/>
        </p:blipFill>
        <p:spPr>
          <a:xfrm>
            <a:off x="353880" y="1438200"/>
            <a:ext cx="8094960" cy="1524240"/>
          </a:xfrm>
          <a:prstGeom prst="rect">
            <a:avLst/>
          </a:prstGeom>
          <a:ln w="0">
            <a:noFill/>
          </a:ln>
        </p:spPr>
      </p:pic>
      <p:pic>
        <p:nvPicPr>
          <p:cNvPr id="114" name="Диаграмма 9" descr=""/>
          <p:cNvPicPr/>
          <p:nvPr/>
        </p:nvPicPr>
        <p:blipFill>
          <a:blip r:embed="rId2"/>
          <a:stretch/>
        </p:blipFill>
        <p:spPr>
          <a:xfrm>
            <a:off x="328680" y="3279600"/>
            <a:ext cx="2932200" cy="2724480"/>
          </a:xfrm>
          <a:prstGeom prst="rect">
            <a:avLst/>
          </a:prstGeom>
          <a:ln w="0">
            <a:noFill/>
          </a:ln>
        </p:spPr>
      </p:pic>
      <p:pic>
        <p:nvPicPr>
          <p:cNvPr id="115" name="Диаграмма 11" descr=""/>
          <p:cNvPicPr/>
          <p:nvPr/>
        </p:nvPicPr>
        <p:blipFill>
          <a:blip r:embed="rId3"/>
          <a:stretch/>
        </p:blipFill>
        <p:spPr>
          <a:xfrm>
            <a:off x="3067200" y="3139920"/>
            <a:ext cx="2936880" cy="3005280"/>
          </a:xfrm>
          <a:prstGeom prst="rect">
            <a:avLst/>
          </a:prstGeom>
          <a:ln w="0">
            <a:noFill/>
          </a:ln>
        </p:spPr>
      </p:pic>
      <p:pic>
        <p:nvPicPr>
          <p:cNvPr id="116" name="Диаграмма 12" descr=""/>
          <p:cNvPicPr/>
          <p:nvPr/>
        </p:nvPicPr>
        <p:blipFill>
          <a:blip r:embed="rId4"/>
          <a:stretch/>
        </p:blipFill>
        <p:spPr>
          <a:xfrm>
            <a:off x="6211800" y="3279600"/>
            <a:ext cx="27990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алоговые и неналоговые доходы районного бюджета на 2025 год и на плановый период 2026 и 2027 год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072040" y="5072040"/>
          <a:ext cx="3571920" cy="90648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</a:tblGrid>
              <a:tr h="33516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Объем налоговых и неналоговых доходов районного бюджета (тыс.руб.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2025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45722,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2026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52963,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2027 г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61053,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Диаграмма 7" descr=""/>
          <p:cNvPicPr/>
          <p:nvPr/>
        </p:nvPicPr>
        <p:blipFill>
          <a:blip r:embed="rId1"/>
          <a:stretch/>
        </p:blipFill>
        <p:spPr>
          <a:xfrm>
            <a:off x="281160" y="1706400"/>
            <a:ext cx="4582800" cy="4730760"/>
          </a:xfrm>
          <a:prstGeom prst="rect">
            <a:avLst/>
          </a:prstGeom>
          <a:ln w="0">
            <a:noFill/>
          </a:ln>
        </p:spPr>
      </p:pic>
      <p:pic>
        <p:nvPicPr>
          <p:cNvPr id="120" name="Диаграмма 8" descr=""/>
          <p:cNvPicPr/>
          <p:nvPr/>
        </p:nvPicPr>
        <p:blipFill>
          <a:blip r:embed="rId2"/>
          <a:stretch/>
        </p:blipFill>
        <p:spPr>
          <a:xfrm>
            <a:off x="0" y="0"/>
            <a:ext cx="85773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труктура расходов районного бюджета               на 2025 год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Диаграмма 6" descr=""/>
          <p:cNvPicPr/>
          <p:nvPr/>
        </p:nvPicPr>
        <p:blipFill>
          <a:blip r:embed="rId1"/>
          <a:stretch/>
        </p:blipFill>
        <p:spPr>
          <a:xfrm>
            <a:off x="1133640" y="1779480"/>
            <a:ext cx="7377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общегосударственных вопросов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Средства районного бюджета на 202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5</a:t>
            </a: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 год запланированы в размере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558192.7</a:t>
            </a: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тыс.рублей на реализацию мероприятий муниципальной программы «Развитие экономического потенциала Знаменского муниципального района Омской области», в том числе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-подпрограммы «Повышение эффективности управления муниципальными финансами в Знаменском муниципальном районе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-подпрограммы «Формирование и развитие муниципальной собственности Знаменского муниципального района Омской области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-подпрограммы «Совершенствование системы муниципального управления, развитие муниципальной службы Знаменского муниципального района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-подпрограммы «Создание условий для обеспечения граждан доступным и комфортным жильем и коммунальными услугами в Знаменском муниципальном районе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-формирование резервного фонда администрации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муниципального райо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асходы районного бюджета в сфере национальной экономики</a:t>
            </a:r>
            <a:br>
              <a:rPr sz="2800"/>
            </a:br>
            <a:r>
              <a:rPr b="0" lang="ru-RU" sz="1800" spc="-1" strike="noStrike">
                <a:solidFill>
                  <a:srgbClr val="ffff59"/>
                </a:solidFill>
                <a:latin typeface="Tahoma"/>
              </a:rPr>
              <a:t>Расходы местного бюджета на 202</a:t>
            </a:r>
            <a:r>
              <a:rPr b="0" lang="en-US" sz="1800" spc="-1" strike="noStrike">
                <a:solidFill>
                  <a:srgbClr val="ffff59"/>
                </a:solidFill>
                <a:latin typeface="Tahoma"/>
              </a:rPr>
              <a:t>5</a:t>
            </a:r>
            <a:r>
              <a:rPr b="0" lang="ru-RU" sz="1800" spc="-1" strike="noStrike">
                <a:solidFill>
                  <a:srgbClr val="ffff59"/>
                </a:solidFill>
                <a:latin typeface="Tahoma"/>
              </a:rPr>
              <a:t> год по разделу «Национальная экономика» предусмотрены в размере 13</a:t>
            </a:r>
            <a:r>
              <a:rPr b="0" lang="en-US" sz="1800" spc="-1" strike="noStrike">
                <a:solidFill>
                  <a:srgbClr val="ffff59"/>
                </a:solidFill>
                <a:latin typeface="Tahoma"/>
              </a:rPr>
              <a:t>221</a:t>
            </a:r>
            <a:r>
              <a:rPr b="0" lang="ru-RU" sz="1800" spc="-1" strike="noStrike">
                <a:solidFill>
                  <a:srgbClr val="ffff59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59"/>
                </a:solidFill>
                <a:latin typeface="Tahoma"/>
              </a:rPr>
              <a:t>9</a:t>
            </a:r>
            <a:r>
              <a:rPr b="0" lang="ru-RU" sz="1800" spc="-1" strike="noStrike">
                <a:solidFill>
                  <a:srgbClr val="ffff59"/>
                </a:solidFill>
                <a:latin typeface="Tahoma"/>
              </a:rPr>
              <a:t> тыс.рублей.</a:t>
            </a:r>
            <a:br>
              <a:rPr sz="32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115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На реализацию мероприятий подпрограммы «Развитие сельского хозяйства и регулирование рынков сельскохозяйственной продукции, сырья и продовольствия Знаменского муниципального района Омской области» проектом бюджета предусмотрено 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5033</a:t>
            </a: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,7 тыс.рублей. Данная подпрограмма предусматрива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-поддержка сельскохозяйственн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деятельности малых форм хозяйств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и создание условий для их развит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-переподготовка и повыш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квалификации руководител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специалистов и рабоч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ahoma"/>
              </a:rPr>
              <a:t>массовых профессий АП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C:\Users\MARGARITA\Desktop\DSC_4183.jpg"/>
          <p:cNvPicPr/>
          <p:nvPr/>
        </p:nvPicPr>
        <p:blipFill>
          <a:blip r:embed="rId1"/>
          <a:stretch/>
        </p:blipFill>
        <p:spPr>
          <a:xfrm>
            <a:off x="6500880" y="3143160"/>
            <a:ext cx="2286000" cy="15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MARGARITA\Desktop\RBccxx0RjRM.jpg"/>
          <p:cNvPicPr/>
          <p:nvPr/>
        </p:nvPicPr>
        <p:blipFill>
          <a:blip r:embed="rId2"/>
          <a:stretch/>
        </p:blipFill>
        <p:spPr>
          <a:xfrm>
            <a:off x="4214880" y="4714920"/>
            <a:ext cx="3857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Расходы районного бюджета на 2025 год по разделу</a:t>
            </a:r>
            <a:br>
              <a:rPr sz="2400"/>
            </a:b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Дорожный фонд Знаменского муниципального район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На содержание и ремонт автомобильных дорог общего пользования местного значения в бюджете на 2025 год предусмотрено 1099,2 тыс.руб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C:\Users\MARGARITA\Desktop\13-01-2025_09-05-33\oIYWrh6n0cw.jpg"/>
          <p:cNvPicPr/>
          <p:nvPr/>
        </p:nvPicPr>
        <p:blipFill>
          <a:blip r:embed="rId1"/>
          <a:stretch/>
        </p:blipFill>
        <p:spPr>
          <a:xfrm>
            <a:off x="6643800" y="1785960"/>
            <a:ext cx="2214360" cy="2857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MARGARITA\Desktop\13-01-2025_09-05-33\ioIFM8f7Qac.jpg"/>
          <p:cNvPicPr/>
          <p:nvPr/>
        </p:nvPicPr>
        <p:blipFill>
          <a:blip r:embed="rId2"/>
          <a:stretch/>
        </p:blipFill>
        <p:spPr>
          <a:xfrm>
            <a:off x="4572000" y="3071880"/>
            <a:ext cx="20001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06:21:36Z</dcterms:created>
  <dc:creator>User</dc:creator>
  <dc:description/>
  <dc:language>en-US</dc:language>
  <cp:lastModifiedBy>MARGARITA</cp:lastModifiedBy>
  <dcterms:modified xsi:type="dcterms:W3CDTF">2025-01-24T05:44:58Z</dcterms:modified>
  <cp:revision>252</cp:revision>
  <dc:subject/>
  <dc:title>Основные направления бюджетной политики Знаменского муниципального района на 2013-2015 годы</dc:title>
</cp:coreProperties>
</file>