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C49B-C157-4C68-BD2B-1E84D5A4359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878F-CA32-4615-BDC1-D4E36BEFA2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0BB-4E35-4CBC-9213-AAB71792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D27-043E-48D3-9F40-0289F347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007-1B7B-4AE7-B85F-C43CA51E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126-E927-402D-8AEB-F4381449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02F1-30A5-47CC-968E-D7C4003C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AEED-A99C-4759-A08B-0FB41E11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C62A-CD76-46C7-B814-9A0CAEB6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1C8F-A847-4E17-BDA9-9ABBC95F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9DC0-AEEE-4629-AE15-AAC8DA53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418F-C7FB-4E86-B2A2-E12CF8CD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7841-1AEA-4A07-ACDA-AF983E60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1E5-155B-41D2-9973-53A78C5E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5E8B-4B80-4EB3-B700-3FAB92D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0E9B-B510-494D-BB4F-2B39EB8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E255-D99C-4C50-9313-46C1BFF3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11E1-F0F0-4230-A493-E99BDADF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3088-7D0F-4B44-B1D8-0DCC7E6C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267-813D-4E12-8D71-3782A53F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AAB-3646-42F3-B9C0-CB3DBAA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C52-42BE-48A3-A7A4-AAA47F83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4FA-02FF-4D8E-9539-AE5E5249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F31-4898-4A48-B380-67B1186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D81-931B-479B-995A-2C0D256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A7E-A78C-4EF6-87F0-4C81F97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0A2E-5447-4308-8764-1CC885D0604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DFA1-2F45-4B61-BE74-28A882E2DC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крытый бюджет</a:t>
            </a:r>
            <a:br>
              <a:rPr sz="40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ект решения Совета Знаменского муниципального района «О бюджете муниципального района на 2024 год и на плановый период 2025 и 2026 годов»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7" descr="\\SERVER\Inform\1 Сектор по бюджету\Шерканова М.В\ОТКРЫТЫЙ БЮДЖЕТ\фото 2024-2026\глава с адырбаевым1.jpg"/>
          <p:cNvPicPr/>
          <p:nvPr/>
        </p:nvPicPr>
        <p:blipFill>
          <a:blip r:embed="rId1"/>
          <a:stretch/>
        </p:blipFill>
        <p:spPr>
          <a:xfrm>
            <a:off x="214200" y="2357280"/>
            <a:ext cx="3000600" cy="20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\\SERVER\Inform\1 Сектор по бюджету\Шерканова М.В\ОТКРЫТЫЙ БЮДЖЕТ\фото 2024-2026\истоки вышитая омская обл.jpg"/>
          <p:cNvPicPr/>
          <p:nvPr/>
        </p:nvPicPr>
        <p:blipFill>
          <a:blip r:embed="rId2"/>
          <a:stretch/>
        </p:blipFill>
        <p:spPr>
          <a:xfrm>
            <a:off x="3429000" y="2571840"/>
            <a:ext cx="2571840" cy="3714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\\SERVER\Inform\1 Сектор по бюджету\Шерканова М.В\ОТКРЫТЫЙ БЮДЖЕТ\фото 2024-2026\Ag5wuA0x02o.jpg"/>
          <p:cNvPicPr/>
          <p:nvPr/>
        </p:nvPicPr>
        <p:blipFill>
          <a:blip r:embed="rId3"/>
          <a:stretch/>
        </p:blipFill>
        <p:spPr>
          <a:xfrm>
            <a:off x="428760" y="442908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\\SERVER\Inform\1 Сектор по бюджету\Шерканова М.В\ОТКРЫТЫЙ БЮДЖЕТ\фото 2024-2026\глава и владимир савицкий.jpg"/>
          <p:cNvPicPr/>
          <p:nvPr/>
        </p:nvPicPr>
        <p:blipFill>
          <a:blip r:embed="rId4"/>
          <a:stretch/>
        </p:blipFill>
        <p:spPr>
          <a:xfrm>
            <a:off x="6143760" y="2357280"/>
            <a:ext cx="2835000" cy="200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\\SERVER\Inform\1 Сектор по бюджету\Шерканова М.В\ОТКРЫТЫЙ БЮДЖЕТ\фото 2024-2026\делегация в ИННОСИбе.jpg"/>
          <p:cNvPicPr/>
          <p:nvPr/>
        </p:nvPicPr>
        <p:blipFill>
          <a:blip r:embed="rId5"/>
          <a:stretch/>
        </p:blipFill>
        <p:spPr>
          <a:xfrm>
            <a:off x="6143760" y="4500720"/>
            <a:ext cx="27860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жилищно-коммунального хозяйств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Расходы бюджета муниципального района на 2024 год предусмотрены в объеме 5649,4тыс.рублей, в том числе на мероприятия подпрограммы «создание условий для обеспечения граждан доступным и комфортным жильем и коммунальными услугами в Знаменском муниципальном районе Омской области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Приобретение жилых помещений для предоставления по договорам социального найма во внеочередном поряд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Переселение граждан из аварий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жилищного фон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Проведение текущих ремонт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объектов муниципаль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собств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\\SERVER\Inform\1 Сектор по бюджету\Шерканова М.В\ОТКРЫТЫЙ БЮДЖЕТ\фото 2024-2026\1.jpg"/>
          <p:cNvPicPr/>
          <p:nvPr/>
        </p:nvPicPr>
        <p:blipFill>
          <a:blip r:embed="rId1"/>
          <a:stretch/>
        </p:blipFill>
        <p:spPr>
          <a:xfrm>
            <a:off x="3857760" y="500076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\\SERVER\Inform\1 Сектор по бюджету\Шерканова М.В\ОТКРЫТЫЙ БЮДЖЕТ\фото 2024-2026\2.jpg"/>
          <p:cNvPicPr/>
          <p:nvPr/>
        </p:nvPicPr>
        <p:blipFill>
          <a:blip r:embed="rId2"/>
          <a:stretch/>
        </p:blipFill>
        <p:spPr>
          <a:xfrm>
            <a:off x="6072120" y="4071960"/>
            <a:ext cx="2833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образова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ий объем бюджетных ассигнований на 2024 год по разделу «Образование» запланирован в сумме 282943,8 тыс.руб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программой «Развитие образования в Знаменском муниципальном районе Омской области» предусмотрено создание условий для обеспечения государственных гарантий граждан на получение общедоступного и бесплатного дошкольного, начального общего, основного общего и среднего (полного) общего образ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ходы по отрасли "Образование" на 2024 год (тыс.руб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Диаграмма 6" descr=""/>
          <p:cNvPicPr/>
          <p:nvPr/>
        </p:nvPicPr>
        <p:blipFill>
          <a:blip r:embed="rId1"/>
          <a:stretch/>
        </p:blipFill>
        <p:spPr>
          <a:xfrm>
            <a:off x="4425840" y="2419200"/>
            <a:ext cx="4510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культуры, кинематограф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00960" cy="17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f74d"/>
                </a:solidFill>
                <a:latin typeface="Tahoma"/>
              </a:rPr>
              <a:t>Общий объем бюджетных ассигнований по разделу «Культура, кинематография» запланирован в сумме 47242,0 тыс.рублей в 2024 году в рамках подпрограммы «Сохранение и развитие культуры Знаменского муниципального района Омской области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Диаграмма 6" descr=""/>
          <p:cNvPicPr/>
          <p:nvPr/>
        </p:nvPicPr>
        <p:blipFill>
          <a:blip r:embed="rId1"/>
          <a:stretch/>
        </p:blipFill>
        <p:spPr>
          <a:xfrm>
            <a:off x="1066680" y="3780000"/>
            <a:ext cx="708372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40384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рограммой </a:t>
            </a:r>
            <a:r>
              <a:rPr b="0" lang="ru-RU" sz="2000" spc="-1" strike="noStrike">
                <a:solidFill>
                  <a:srgbClr val="dff74d"/>
                </a:solidFill>
                <a:latin typeface="Tahoma"/>
              </a:rPr>
              <a:t>«Сохранение и развитие культуры Знаменского муниципального района Омской области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едусматриваются мероприятия п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развитию музейного 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развитию библиотечно-информационных услу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охранению и развитию национальной и традиционной куль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озданию условий для организации досуга насе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\\SERVER\Inform\1 Сектор по бюджету\Шерканова М.В\ОТКРЫТЫЙ БЮДЖЕТ\фото 2024-2026\куклы.jpg"/>
          <p:cNvPicPr/>
          <p:nvPr/>
        </p:nvPicPr>
        <p:blipFill>
          <a:blip r:embed="rId1"/>
          <a:stretch/>
        </p:blipFill>
        <p:spPr>
          <a:xfrm>
            <a:off x="5643720" y="2214720"/>
            <a:ext cx="3352680" cy="217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\\SERVER\Inform\1 Сектор по бюджету\Шерканова М.В\ОТКРЫТЫЙ БЮДЖЕТ\фото 2024-2026\музей.jpg"/>
          <p:cNvPicPr/>
          <p:nvPr/>
        </p:nvPicPr>
        <p:blipFill>
          <a:blip r:embed="rId2"/>
          <a:stretch/>
        </p:blipFill>
        <p:spPr>
          <a:xfrm>
            <a:off x="3929040" y="4500720"/>
            <a:ext cx="3357720" cy="2171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\\SERVER\Inform\1 Сектор по бюджету\Шерканова М.В\ОТКРЫТЫЙ БЮДЖЕТ\фото 2024-2026\истоки.jpg"/>
          <p:cNvPicPr/>
          <p:nvPr/>
        </p:nvPicPr>
        <p:blipFill>
          <a:blip r:embed="rId3"/>
          <a:stretch/>
        </p:blipFill>
        <p:spPr>
          <a:xfrm>
            <a:off x="4714920" y="214200"/>
            <a:ext cx="3206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социальной поли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85840" y="1428480"/>
            <a:ext cx="51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f74d"/>
                </a:solidFill>
                <a:latin typeface="Tahoma"/>
              </a:rPr>
              <a:t>Бюджетные ассигнования районного бюджета по разделу "Социальная политика" запланированы в объеме 13407,5 тыс. рублей на 2024 год, ,11457,3 тыс.рублей на 2025 год,  11479,0 тыс.рублей на 2026 г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f74d"/>
                </a:solidFill>
                <a:latin typeface="Tahoma"/>
              </a:rPr>
              <a:t>Выплата пенсии за выслугу лет муниципальным служащим, замещавшим должности муниципальной службы и (или) муниципальные должности муниципальной службы 2000,0тыс.руб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f74d"/>
                </a:solidFill>
                <a:latin typeface="Tahoma"/>
              </a:rPr>
              <a:t>Бюджетными ассигнованиями районного бюджета  по подразделу "Охрана семьи и детства" предусмотрены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f74d"/>
                </a:solidFill>
                <a:latin typeface="Tahoma"/>
              </a:rPr>
              <a:t>1) компенсация части родительской платы за содержание ребенка (детей) в дошкольных учреждениях – 519,7 тыс. рубле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f74d"/>
                </a:solidFill>
                <a:latin typeface="Tahoma"/>
              </a:rPr>
              <a:t>2) Предоставление опекунам (попечителям) детей, оставшихся без попечения родителей, в том числе детей-сирот, денежных средств на содержание подопечных детей – 3334,8 тыс. рубле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f74d"/>
                </a:solidFill>
                <a:latin typeface="Tahoma"/>
              </a:rPr>
              <a:t>3) предоставление приемным родителям (родителю), приемным семьям мер социальной поддержки – 3108,7тыс. рублей 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f74d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dff74d"/>
                </a:solidFill>
                <a:latin typeface="Tahoma"/>
              </a:rPr>
              <a:t>4) ежемесячное денежное вознаграждение опекунам (попечителям, приемным родителям) – 2490,7 тыс. рубл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Диаграмма 6" descr=""/>
          <p:cNvPicPr/>
          <p:nvPr/>
        </p:nvPicPr>
        <p:blipFill>
          <a:blip r:embed="rId1"/>
          <a:stretch/>
        </p:blipFill>
        <p:spPr>
          <a:xfrm>
            <a:off x="4992840" y="1920960"/>
            <a:ext cx="3943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изическая культура и спор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амках подпрограммы «Развитие сферы молодежной политики, физической культуры и спорта» предусмотрены денежные средства в объеме 649,6 тыс.рублей на организацию и проведение спортивных соревнований и физкультурно-оздоровительных мероприятий, материально-техническое обеспечение спортивных сборных команд муниципального рай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\\SERVER\Inform\1 Сектор по бюджету\Шерканова М.В\ОТКРЫТЫЙ БЮДЖЕТ\фото 2024-2026\кросс золотая осень.jpg"/>
          <p:cNvPicPr/>
          <p:nvPr/>
        </p:nvPicPr>
        <p:blipFill>
          <a:blip r:embed="rId1"/>
          <a:stretch/>
        </p:blipFill>
        <p:spPr>
          <a:xfrm>
            <a:off x="4214880" y="128592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\\SERVER\Inform\1 Сектор по бюджету\Шерканова М.В\ОТКРЫТЫЙ БЮДЖЕТ\фото 2024-2026\хоккей.jpg"/>
          <p:cNvPicPr/>
          <p:nvPr/>
        </p:nvPicPr>
        <p:blipFill>
          <a:blip r:embed="rId2"/>
          <a:stretch/>
        </p:blipFill>
        <p:spPr>
          <a:xfrm>
            <a:off x="5857920" y="3071880"/>
            <a:ext cx="3110040" cy="207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\\SERVER\Inform\1 Сектор по бюджету\Шерканова М.В\ОТКРЫТЫЙ БЮДЖЕТ\фото 2024-2026\футбол старшие.jpg"/>
          <p:cNvPicPr/>
          <p:nvPr/>
        </p:nvPicPr>
        <p:blipFill>
          <a:blip r:embed="rId3"/>
          <a:stretch/>
        </p:blipFill>
        <p:spPr>
          <a:xfrm>
            <a:off x="4357800" y="485784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политики Знаменского муниципального района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 2024-2026 год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Цель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юджетной политики Знаменского М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ение социальной и экономической стабильности района, обеспечение  долгосрочной сбалансированности и устойчивости бюджета района в условиях ограниченности его доходных источн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Направления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юджетной политики Знаменского М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обеспечение финансовой устойчивости местного бюдже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совершенствование структуры органов местного самоуправления, оптимизация расходов на их содержан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реализация мероприятий, направленных на совершенствование оказания муниципальных услуг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совершенствование социальной инфраструктуры и повышение эффективности деятельности муниципальных учреждений в сферах образования, культуры, спорта и молодежной полити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ликвидация дефицита и обеспечение доступности муниципальных услуг, оказываемых дошкольными образовательными учреждениями, в том числе за счет строительства зданий для размещения дошкольных образовательных учрежд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улучшение жилищных условий населения в Знаменском район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стимулирование развития малого и среднего предпринимательс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реализация мер, обеспечивающих поддержку приоритетных направлений развития агропромышленного комплекс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переход к формированию и исполнению районного бюджета на основе муниципальных програм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сновные параметры районного бюджета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 2024 год и на плановый период 2025 и 2026 год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781200" y="1859040"/>
            <a:ext cx="78692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руктура доходов районного бюджета на 2024 год и на плановый период 2025 и 2026 год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Схема 10" descr=""/>
          <p:cNvPicPr/>
          <p:nvPr/>
        </p:nvPicPr>
        <p:blipFill>
          <a:blip r:embed="rId1"/>
          <a:stretch/>
        </p:blipFill>
        <p:spPr>
          <a:xfrm>
            <a:off x="353880" y="1438200"/>
            <a:ext cx="8094960" cy="1524240"/>
          </a:xfrm>
          <a:prstGeom prst="rect">
            <a:avLst/>
          </a:prstGeom>
          <a:ln w="0">
            <a:noFill/>
          </a:ln>
        </p:spPr>
      </p:pic>
      <p:pic>
        <p:nvPicPr>
          <p:cNvPr id="115" name="Диаграмма 6" descr=""/>
          <p:cNvPicPr/>
          <p:nvPr/>
        </p:nvPicPr>
        <p:blipFill>
          <a:blip r:embed="rId2"/>
          <a:stretch/>
        </p:blipFill>
        <p:spPr>
          <a:xfrm>
            <a:off x="255600" y="3565440"/>
            <a:ext cx="3036960" cy="2659320"/>
          </a:xfrm>
          <a:prstGeom prst="rect">
            <a:avLst/>
          </a:prstGeom>
          <a:ln w="0">
            <a:noFill/>
          </a:ln>
        </p:spPr>
      </p:pic>
      <p:pic>
        <p:nvPicPr>
          <p:cNvPr id="116" name="Диаграмма 7" descr=""/>
          <p:cNvPicPr/>
          <p:nvPr/>
        </p:nvPicPr>
        <p:blipFill>
          <a:blip r:embed="rId3"/>
          <a:stretch/>
        </p:blipFill>
        <p:spPr>
          <a:xfrm>
            <a:off x="3279600" y="3352680"/>
            <a:ext cx="2797200" cy="2799000"/>
          </a:xfrm>
          <a:prstGeom prst="rect">
            <a:avLst/>
          </a:prstGeom>
          <a:ln w="0">
            <a:noFill/>
          </a:ln>
        </p:spPr>
      </p:pic>
      <p:pic>
        <p:nvPicPr>
          <p:cNvPr id="117" name="Диаграмма 8" descr=""/>
          <p:cNvPicPr/>
          <p:nvPr/>
        </p:nvPicPr>
        <p:blipFill>
          <a:blip r:embed="rId4"/>
          <a:stretch/>
        </p:blipFill>
        <p:spPr>
          <a:xfrm>
            <a:off x="5992920" y="3852720"/>
            <a:ext cx="286992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логовые и неналоговые доходы районного бюджета на 2024 год и на плановый период 2025 и 2026 год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072040" y="5072040"/>
          <a:ext cx="3571920" cy="90648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</a:tblGrid>
              <a:tr h="33516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м налоговых и неналоговых доходов районного бюджета (тыс.руб.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7154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3217,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1843,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Диаграмма 5" descr=""/>
          <p:cNvPicPr/>
          <p:nvPr/>
        </p:nvPicPr>
        <p:blipFill>
          <a:blip r:embed="rId1"/>
          <a:stretch/>
        </p:blipFill>
        <p:spPr>
          <a:xfrm>
            <a:off x="353880" y="1852560"/>
            <a:ext cx="4651560" cy="4372200"/>
          </a:xfrm>
          <a:prstGeom prst="rect">
            <a:avLst/>
          </a:prstGeom>
          <a:ln w="0">
            <a:noFill/>
          </a:ln>
        </p:spPr>
      </p:pic>
      <p:pic>
        <p:nvPicPr>
          <p:cNvPr id="121" name="Диаграмма 6" descr=""/>
          <p:cNvPicPr/>
          <p:nvPr/>
        </p:nvPicPr>
        <p:blipFill>
          <a:blip r:embed="rId2"/>
          <a:stretch/>
        </p:blipFill>
        <p:spPr>
          <a:xfrm>
            <a:off x="0" y="0"/>
            <a:ext cx="87901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руктура расходов районного бюджета               на 2024 год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Диаграмма 4" descr=""/>
          <p:cNvPicPr/>
          <p:nvPr/>
        </p:nvPicPr>
        <p:blipFill>
          <a:blip r:embed="rId1"/>
          <a:stretch/>
        </p:blipFill>
        <p:spPr>
          <a:xfrm>
            <a:off x="1206360" y="2066760"/>
            <a:ext cx="708372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общегосударственных вопрос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Средства районного бюджета на 2024 год запланированы в размере </a:t>
            </a:r>
            <a:r>
              <a:rPr b="0" lang="en-US" sz="1800" spc="-1" strike="noStrike">
                <a:solidFill>
                  <a:srgbClr val="ff9933"/>
                </a:solidFill>
                <a:latin typeface="Tahoma"/>
              </a:rPr>
              <a:t>436171</a:t>
            </a: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,8 тыс.рублей на реализацию мероприятий муниципальной программы «Развитие экономического потенциала Знаменского муниципального района Омской области», в том числе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-подпрограммы «Повышение эффективности управления муниципальными финансами в Знаменском муниципальном районе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-подпрограммы «Формирование и развитие муниципальной собственности Знаменского муниципального района Омской области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-подпрограммы «Совершенствование системы муниципального управления, развитие муниципальной службы Знаменского муниципального района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-подпрограммы «Создание условий для обеспечения граждан доступным и комфортным жильем и коммунальными услугами в Знаменском муниципальном районе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-формирование резервного фонда администрации</a:t>
            </a:r>
            <a:r>
              <a:rPr b="0" lang="ru-RU" sz="2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муниципального рай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национальной экономики</a:t>
            </a:r>
            <a:br>
              <a:rPr sz="2800"/>
            </a:b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Расходы местного бюджета на 2024 год по разделу «Национальная экономика» предусмотрены в размере 13483,4 тыс.рублей.</a:t>
            </a:r>
            <a:br>
              <a:rPr sz="32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115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На реализацию мероприятий подпрограммы «Развитие сельского хозяйства и регулирование рынков сельскохозяйственной продукции, сырья и продовольствия Знаменского муниципального района Омской области» проектом бюджета предусмотрено 4331,5 тыс.рублей. Данная подпрограмма предусматрива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-поддержка сельскохозяйствен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деятельности малых форм хозяйств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и создание условий для их развит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-переподготовка и повыш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квалифика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руководителей, специалистов и рабоч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Tahoma"/>
              </a:rPr>
              <a:t>массовых профессий АП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6" descr="\\SERVER\Inform\1 Сектор по бюджету\Шерканова М.В\ОТКРЫТЫЙ БЮДЖЕТ\фото 2024-2026\глава с андреем шпиленко.jpg"/>
          <p:cNvPicPr/>
          <p:nvPr/>
        </p:nvPicPr>
        <p:blipFill>
          <a:blip r:embed="rId1"/>
          <a:stretch/>
        </p:blipFill>
        <p:spPr>
          <a:xfrm>
            <a:off x="4714920" y="3286080"/>
            <a:ext cx="43336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сходы районного бюджета на 2024 год по разделу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орожный фонд Знаменского муниципального район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одержание и ремонт автомобильных дорог общего пользования местного значения в бюджете на 2024 год предусмотрено 6668,0 тыс.руб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\\SERVER\Inform\1 Сектор по бюджету\Шерканова М.В\ОТКРЫТЫЙ БЮДЖЕТ\фото 2024-2026\дороги.jpg"/>
          <p:cNvPicPr/>
          <p:nvPr/>
        </p:nvPicPr>
        <p:blipFill>
          <a:blip r:embed="rId1"/>
          <a:stretch/>
        </p:blipFill>
        <p:spPr>
          <a:xfrm>
            <a:off x="4724280" y="2502000"/>
            <a:ext cx="39625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6:21:36Z</dcterms:created>
  <dc:creator>User</dc:creator>
  <dc:description/>
  <dc:language>en-US</dc:language>
  <cp:lastModifiedBy>MARGARITA</cp:lastModifiedBy>
  <dcterms:modified xsi:type="dcterms:W3CDTF">2024-01-22T10:02:55Z</dcterms:modified>
  <cp:revision>217</cp:revision>
  <dc:subject/>
  <dc:title>Основные направления бюджетной политики Знаменского муниципального района на 2013-2015 годы</dc:title>
</cp:coreProperties>
</file>